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0D1DC-F979-441A-AAC8-A346B1194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1555E-5CA7-4C1E-8E6D-C6D3B5D49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1FF53-5B5D-437A-8002-E9D6A3B880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242BD-CF94-4632-A4DB-80477F031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69C4E7-0565-4525-BD2C-C5F7A884EB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462A2-6B94-49F5-80D5-541490EB7C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FC964D-99AB-480E-ABEB-6939D75524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10EAAF-C82B-4DDB-8E56-62C113CB00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C4EFFCA-660E-4B09-BD88-D0F754E308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1FAC2BE-C3AE-4745-86E4-69F76F6C99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9CFE5B-AEA1-4849-B389-EF9803AF7A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9758-F8D6-469D-B92A-5A2074CFF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E4263F-C4DC-4665-AFBA-0A6978184B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5E10F3-FE53-412D-AE13-6E9C83B649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952F9D8-2C17-475E-897F-3F2AC541E9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F5A7B9-0C1F-4B40-8190-B0E63E56D6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9823723-B5AA-4EBF-AD86-59BC988084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7AD5-75B6-454A-B31A-78E7E96F79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B38E5-3FFC-4F27-ADA9-00474B672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9EF76245-5829-46F9-8C98-D4BC5F245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8A51D62-9358-40F7-B1EA-16DCFFB6A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8D433-ECE9-4136-9543-FF92A62FA3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9F602-D588-4937-B67B-E2C3E53954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01C0B-CADD-48CE-90F0-CC75A35356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3" name="Picture 10" descr=""/>
          <p:cNvPicPr/>
          <p:nvPr/>
        </p:nvPicPr>
        <p:blipFill>
          <a:blip r:embed="rId2"/>
          <a:stretch/>
        </p:blipFill>
        <p:spPr>
          <a:xfrm>
            <a:off x="0" y="-76320"/>
            <a:ext cx="2286000" cy="2973600"/>
          </a:xfrm>
          <a:prstGeom prst="rect">
            <a:avLst/>
          </a:prstGeom>
          <a:ln w="0">
            <a:noFill/>
          </a:ln>
        </p:spPr>
      </p:pic>
      <p:sp>
        <p:nvSpPr>
          <p:cNvPr id="4" name="PlaceHolder 3"/>
          <p:cNvSpPr>
            <a:spLocks noGrp="1"/>
          </p:cNvSpPr>
          <p:nvPr>
            <p:ph type="sldNum" idx="1"/>
          </p:nvPr>
        </p:nvSpPr>
        <p:spPr>
          <a:xfrm>
            <a:off x="4038480" y="624492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E722-9BD7-43DF-A90B-CD40E8C5BF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7924320" y="650700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56b2"/>
                </a:solidFill>
                <a:latin typeface="Arial"/>
              </a:rPr>
              <a:t>www.usac.org</a:t>
            </a:r>
            <a:endParaRPr b="0" lang="en-US" sz="1200" spc="-1" strike="noStrike">
              <a:solidFill>
                <a:srgbClr val="000000"/>
              </a:solidFill>
              <a:latin typeface="Arial"/>
            </a:endParaRPr>
          </a:p>
        </p:txBody>
      </p:sp>
      <p:pic>
        <p:nvPicPr>
          <p:cNvPr id="42" name="Picture 7" descr=""/>
          <p:cNvPicPr/>
          <p:nvPr/>
        </p:nvPicPr>
        <p:blipFill>
          <a:blip r:embed="rId2"/>
          <a:stretch/>
        </p:blipFill>
        <p:spPr>
          <a:xfrm>
            <a:off x="0" y="-76320"/>
            <a:ext cx="2286000" cy="2973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4190760" y="6244920"/>
            <a:ext cx="106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FC9D-ABD1-4D57-893B-0D51617CF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9"/>
          <p:cNvSpPr/>
          <p:nvPr/>
        </p:nvSpPr>
        <p:spPr>
          <a:xfrm>
            <a:off x="1371600" y="1676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09120" y="167616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PA</a:t>
            </a:r>
            <a:br>
              <a:rPr sz="4000"/>
            </a:br>
            <a:r>
              <a:rPr b="0" lang="en-US" sz="4000" spc="-1" strike="noStrike">
                <a:solidFill>
                  <a:srgbClr val="000000"/>
                </a:solidFill>
                <a:latin typeface="Arial"/>
              </a:rPr>
              <a:t>(Children’s Internet Protection Act)</a:t>
            </a:r>
            <a:endParaRPr b="0" lang="en-US" sz="4000" spc="-1" strike="noStrike">
              <a:solidFill>
                <a:srgbClr val="000000"/>
              </a:solidFill>
              <a:latin typeface="Arial"/>
            </a:endParaRPr>
          </a:p>
        </p:txBody>
      </p:sp>
      <p:sp>
        <p:nvSpPr>
          <p:cNvPr id="84"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You Succeed</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Libraries Division</a:t>
            </a:r>
            <a:endParaRPr b="0" lang="en-US" sz="2800" spc="-1" strike="noStrike">
              <a:solidFill>
                <a:srgbClr val="000000"/>
              </a:solidFill>
              <a:latin typeface="Arial"/>
            </a:endParaRPr>
          </a:p>
        </p:txBody>
      </p:sp>
      <p:sp>
        <p:nvSpPr>
          <p:cNvPr id="85" name="Text Box 12"/>
          <p:cNvSpPr/>
          <p:nvPr/>
        </p:nvSpPr>
        <p:spPr>
          <a:xfrm>
            <a:off x="228600" y="57913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 DC • Newark • Atlanta • Chicago • Orlando • Los Angeles • Portland • Houst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October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7DE8-CBC7-43F3-A1EE-729B8D765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rst funding year</a:t>
            </a:r>
            <a:endParaRPr b="0" lang="en-US" sz="4000" spc="-1" strike="noStrike">
              <a:solidFill>
                <a:srgbClr val="000000"/>
              </a:solidFill>
              <a:latin typeface="Arial"/>
            </a:endParaRPr>
          </a:p>
        </p:txBody>
      </p:sp>
      <p:sp>
        <p:nvSpPr>
          <p:cNvPr id="112"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funding year for purposes of CIPA is the first funding year starting with FY2001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pplied for and received funding for Internet Access, Internal Connections, or Basic Maintenance of Internal Connection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uccessfully filed a Form 486</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embers of a consortium, you filed a Form 479 with your consortium leader and your consortium leader reported your status by successfully filing a Form 48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70EF-5CB3-45DB-8628-40F812594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third funding years</a:t>
            </a:r>
            <a:endParaRPr b="0" lang="en-US" sz="4000" spc="-1" strike="noStrike">
              <a:solidFill>
                <a:srgbClr val="000000"/>
              </a:solidFill>
              <a:latin typeface="Arial"/>
            </a:endParaRPr>
          </a:p>
        </p:txBody>
      </p:sp>
      <p:sp>
        <p:nvSpPr>
          <p:cNvPr id="115"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econd funding year for purposes of CIPA is the year after your first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apply for discounts – or only for discounts on Telecommunications Services in the year following your first funding year – that year is still your second funding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third funding year for purposes of CIPA is the year after your second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compliance with CI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C44C-DC33-4F63-9D65-809B3AF1A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ministrative authority</a:t>
            </a:r>
            <a:endParaRPr b="0" lang="en-US" sz="4000" spc="-1" strike="noStrike">
              <a:solidFill>
                <a:srgbClr val="000000"/>
              </a:solidFill>
              <a:latin typeface="Arial"/>
            </a:endParaRPr>
          </a:p>
        </p:txBody>
      </p:sp>
      <p:sp>
        <p:nvSpPr>
          <p:cNvPr id="118"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ministrative authority must make the certification of compliance with CIP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school, the administrative authority may be the relevant school, school board, local educational agency, or other authority with responsibility for administration of the schoo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ibrary, the administrative authority may be the relevant library, library board, or other authority with responsibility for administration of the libr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879D-5F11-409B-BEC2-52D5ED6C4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486</a:t>
            </a:r>
            <a:endParaRPr b="0" lang="en-US" sz="4000" spc="-1" strike="noStrike">
              <a:solidFill>
                <a:srgbClr val="000000"/>
              </a:solidFill>
              <a:latin typeface="Arial"/>
            </a:endParaRPr>
          </a:p>
        </p:txBody>
      </p:sp>
      <p:sp>
        <p:nvSpPr>
          <p:cNvPr id="121"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illed Entity and the administrative authority are the same, the Billed Entity makes the CIPA certification on the Form 486, Item 11a, 11b, or 11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a) The recipient(s) of service have complied with the requirements of CIP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b) The recipient(s) of service are undertaking actions to comply with CIP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c) CIPA does not apply because the recipients of service are receiving discounts only for telecommunications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1C5C-9361-4496-AA95-B57E6F698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486</a:t>
            </a:r>
            <a:endParaRPr b="0" lang="en-US" sz="4000" spc="-1" strike="noStrike">
              <a:solidFill>
                <a:srgbClr val="000000"/>
              </a:solidFill>
              <a:latin typeface="Arial"/>
            </a:endParaRPr>
          </a:p>
        </p:txBody>
      </p:sp>
      <p:sp>
        <p:nvSpPr>
          <p:cNvPr id="124"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ed Entity and the administrative authority are not the same, the administrative authority makes the CIPA certification on the Form 479 and sends the Form 479 to the Billed Entity</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lled Entity then certifies on the Form 486 th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d) It has collected Forms 479 from all eligible consortium members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e) Only telecommunications services have been approved for discounts on behalf of eligible consortium member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lled Entity also notes if any consortium members have requested a CIPA waiver (Items 11f and 11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1A2D-79A9-45B1-98FC-3D5FCD924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dlines</a:t>
            </a:r>
            <a:endParaRPr b="0" lang="en-US" sz="4000" spc="-1" strike="noStrike">
              <a:solidFill>
                <a:srgbClr val="000000"/>
              </a:solidFill>
              <a:latin typeface="Arial"/>
            </a:endParaRPr>
          </a:p>
        </p:txBody>
      </p:sp>
      <p:sp>
        <p:nvSpPr>
          <p:cNvPr id="127"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486 dead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days after the date of the Funding Commitment Decision Letter or 120 days after the service start date reported on the Form 486, whichever is l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that fail to certify a Form 486 by the deadline will receive a Form 486 Urgent Reminder Letter giving them an additional 20 days to submit and certify Form 486</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ients of service must be compliant with CIPA before they can receive discounts on services other than telecommunications servic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9335-F238-468B-AA41-A97E43159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dlines</a:t>
            </a:r>
            <a:endParaRPr b="0" lang="en-US" sz="4000" spc="-1" strike="noStrike">
              <a:solidFill>
                <a:srgbClr val="000000"/>
              </a:solidFill>
              <a:latin typeface="Arial"/>
            </a:endParaRPr>
          </a:p>
        </p:txBody>
      </p:sp>
      <p:sp>
        <p:nvSpPr>
          <p:cNvPr id="130" name="PlaceHolder 2"/>
          <p:cNvSpPr>
            <a:spLocks noGrp="1"/>
          </p:cNvSpPr>
          <p:nvPr>
            <p:ph/>
          </p:nvPr>
        </p:nvSpPr>
        <p:spPr>
          <a:xfrm>
            <a:off x="533520" y="1219320"/>
            <a:ext cx="8224560" cy="502920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479 deadlin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rtium members must submit Form 479 to their consortium leader in time for the consortium leader to timely file the Form 486</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 consortium leader when you should submit Form 479</a:t>
            </a:r>
            <a:endParaRPr b="0" lang="en-US" sz="24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although the Form 479 specifies consortium members, there are other situations when a recipient of service files a Form 479</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library’s budget is part of its town’s budget, and the city is the Billed Entity for the Form 471 and Form 48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E4C5-72DB-4A68-8FF2-FD4B876F4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inders</a:t>
            </a:r>
            <a:endParaRPr b="0" lang="en-US" sz="4000" spc="-1" strike="noStrike">
              <a:solidFill>
                <a:srgbClr val="000000"/>
              </a:solidFill>
              <a:latin typeface="Arial"/>
            </a:endParaRPr>
          </a:p>
        </p:txBody>
      </p:sp>
      <p:sp>
        <p:nvSpPr>
          <p:cNvPr id="133" name="PlaceHolder 2"/>
          <p:cNvSpPr>
            <a:spLocks noGrp="1"/>
          </p:cNvSpPr>
          <p:nvPr>
            <p:ph/>
          </p:nvPr>
        </p:nvSpPr>
        <p:spPr>
          <a:xfrm>
            <a:off x="533520" y="1371240"/>
            <a:ext cx="8224560" cy="480060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s must maintain documentation for five years after the last day to receive service</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CIPA applies for every funding year from FY2001 going forward, you must maintain proof of CIPA compliance on an ongoing basis</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of public notice of public meeting or hearing</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of public meeting or hearing</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Internet Safety Polic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hat the technology protection measure was in place during the funding year (maintenance logs, filtering logs, proof of purchase or description of filter from service provider)</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chools: documentation of monitoring the online activities of minors</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F521-4538-485B-A26D-586D4A962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dates to CIPA</a:t>
            </a:r>
            <a:endParaRPr b="0" lang="en-US" sz="4000" spc="-1" strike="noStrike">
              <a:solidFill>
                <a:srgbClr val="000000"/>
              </a:solidFill>
              <a:latin typeface="Arial"/>
            </a:endParaRPr>
          </a:p>
        </p:txBody>
      </p:sp>
      <p:sp>
        <p:nvSpPr>
          <p:cNvPr id="136" name="PlaceHolder 2"/>
          <p:cNvSpPr>
            <a:spLocks noGrp="1"/>
          </p:cNvSpPr>
          <p:nvPr>
            <p:ph/>
          </p:nvPr>
        </p:nvSpPr>
        <p:spPr>
          <a:xfrm>
            <a:off x="533520" y="1334880"/>
            <a:ext cx="822456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ing Children in the 21</a:t>
            </a:r>
            <a:r>
              <a:rPr b="0" lang="en-US" sz="2600" spc="-1" strike="noStrike" baseline="30000">
                <a:solidFill>
                  <a:srgbClr val="000000"/>
                </a:solidFill>
                <a:latin typeface="Arial"/>
              </a:rPr>
              <a:t>st</a:t>
            </a:r>
            <a:r>
              <a:rPr b="0" lang="en-US" sz="2600" spc="-1" strike="noStrike">
                <a:solidFill>
                  <a:srgbClr val="000000"/>
                </a:solidFill>
                <a:latin typeface="Arial"/>
              </a:rPr>
              <a:t> Century Act</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C is working on a Notice of Proposed Rulemaking (NPRM) concerning the requirements in this ac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NPRM is issued, there will be a specific period when interested parties can submit comments and also reply to comments already submitte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comments and reply comments have been reviewed, the FCC will issue an ord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der will contain information about any new requirements (rule changes) for program participant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then, CIPA requirements under the E-rate program remain unchan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C6CE-43F7-4575-A778-780EA0C6C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4A23-5B5C-4A98-AC22-C63384AA4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a:t>
            </a:r>
            <a:endParaRPr b="0" lang="en-US" sz="4000" spc="-1" strike="noStrike">
              <a:solidFill>
                <a:srgbClr val="000000"/>
              </a:solidFill>
              <a:latin typeface="Arial"/>
            </a:endParaRPr>
          </a:p>
        </p:txBody>
      </p:sp>
      <p:sp>
        <p:nvSpPr>
          <p:cNvPr id="88"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PA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Safety Poli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protection mea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notice and public hearing or meeting</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econd, and third funding yea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uthorit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486 and Form 479</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dead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9541-1B91-46B0-868C-D5520E30F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IPA? </a:t>
            </a:r>
            <a:endParaRPr b="0" lang="en-US" sz="4000" spc="-1" strike="noStrike">
              <a:solidFill>
                <a:srgbClr val="000000"/>
              </a:solidFill>
              <a:latin typeface="Arial"/>
            </a:endParaRPr>
          </a:p>
        </p:txBody>
      </p:sp>
      <p:sp>
        <p:nvSpPr>
          <p:cNvPr id="91"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s Internet Protection Act was signed into law on December 21, 2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with FY2001, CIPA sets certain requirements for E-rate recipients of service receiving funds for Internet Access, Internal Connections, and Basic Maintenance of Internal Conn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A DOES NOT APPLY to Telecommunications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5C83-5E66-4DF9-B314-840FB97CD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et Safety Policy </a:t>
            </a:r>
            <a:endParaRPr b="0" lang="en-US" sz="4000" spc="-1" strike="noStrike">
              <a:solidFill>
                <a:srgbClr val="000000"/>
              </a:solidFill>
              <a:latin typeface="Arial"/>
            </a:endParaRPr>
          </a:p>
        </p:txBody>
      </p:sp>
      <p:sp>
        <p:nvSpPr>
          <p:cNvPr id="94"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afety Policy (ISP) must:</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certain policy issues (next slide)</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addressed at a public hearing or meeting for which reasonable notice is provided</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lude a technology protection measure</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s only) Include monitoring of online activities of minors</a:t>
            </a:r>
            <a:endParaRPr b="0" lang="en-US" sz="3000" spc="-1" strike="noStrike">
              <a:solidFill>
                <a:srgbClr val="000000"/>
              </a:solidFill>
              <a:latin typeface="Arial"/>
            </a:endParaRPr>
          </a:p>
          <a:p>
            <a:pPr marL="343080" indent="-34308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 sure to retain a copy of your ISP</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7235-7FF5-4D8A-B5E4-AE4440DBB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et Safety Policy </a:t>
            </a:r>
            <a:endParaRPr b="0" lang="en-US" sz="4000" spc="-1" strike="noStrike">
              <a:solidFill>
                <a:srgbClr val="000000"/>
              </a:solidFill>
              <a:latin typeface="Arial"/>
            </a:endParaRPr>
          </a:p>
        </p:txBody>
      </p:sp>
      <p:sp>
        <p:nvSpPr>
          <p:cNvPr id="97"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issues that must be addressed:</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by minors to inappropriate materi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ety/security of minors when using e-mail, chat rooms, other direct electronic communicat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uthorized access, including “hacking” and other unlawful activities by minors onlin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uthorized disclosure, use and dissemination of personal information regarding minor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designed to restrict minors’ access to materials harmful to min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0501-BF7C-4D54-B5C5-92821F602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 </a:t>
            </a:r>
            <a:endParaRPr b="0" lang="en-US" sz="4000" spc="-1" strike="noStrike">
              <a:solidFill>
                <a:srgbClr val="000000"/>
              </a:solidFill>
              <a:latin typeface="Arial"/>
            </a:endParaRPr>
          </a:p>
        </p:txBody>
      </p:sp>
      <p:sp>
        <p:nvSpPr>
          <p:cNvPr id="100" name="PlaceHolder 2"/>
          <p:cNvSpPr>
            <a:spLocks noGrp="1"/>
          </p:cNvSpPr>
          <p:nvPr>
            <p:ph/>
          </p:nvPr>
        </p:nvSpPr>
        <p:spPr>
          <a:xfrm>
            <a:off x="228600" y="1218960"/>
            <a:ext cx="8763120" cy="480060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protection measure (filter)</a:t>
            </a:r>
            <a:endParaRPr b="0" lang="en-US" sz="28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ic technology that blocks or filters Internet access</a:t>
            </a: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protect against access by adults and minors to visual depictions that are obscene, child pornography, or harmful to minors</a:t>
            </a: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isabled for adults engaged in bona fide research or other lawful purposes</a:t>
            </a:r>
            <a:endParaRPr b="0" lang="en-US" sz="26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can be provided by a school or library, a district, a consortium, or a service provider</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proof that the filter was in place and 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9761-3486-4F56-922F-0F9F29223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c hearing or meeting </a:t>
            </a:r>
            <a:endParaRPr b="0" lang="en-US" sz="4000" spc="-1" strike="noStrike">
              <a:solidFill>
                <a:srgbClr val="000000"/>
              </a:solidFill>
              <a:latin typeface="Arial"/>
            </a:endParaRPr>
          </a:p>
        </p:txBody>
      </p:sp>
      <p:sp>
        <p:nvSpPr>
          <p:cNvPr id="103"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afety Policy must be addressed at a public meeting or hea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ivate schools, “public” notice means notice to appropriate constituent group</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documentation of public notice (newspaper ad, flyer, announcement in other public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documentation of hearing or meeting (board agenda, meeting minu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1B32-BE44-40EF-A853-31089D7EC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c hearing or meeting </a:t>
            </a:r>
            <a:endParaRPr b="0" lang="en-US" sz="4000" spc="-1" strike="noStrike">
              <a:solidFill>
                <a:srgbClr val="000000"/>
              </a:solidFill>
              <a:latin typeface="Arial"/>
            </a:endParaRPr>
          </a:p>
        </p:txBody>
      </p:sp>
      <p:sp>
        <p:nvSpPr>
          <p:cNvPr id="106"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 have satisfied this requirement, you do not have to hold a new public meeting or hearing UNLESS:</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not adequately document your original public notice and public meeting or hear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Internet Safety Policy includes a provision for periodic approvals in a public meet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have made major changes in your Internet Safety Policy that require approval in a public meeti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454A-6D56-4823-B11B-31B95391A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iance timeline</a:t>
            </a:r>
            <a:endParaRPr b="0" lang="en-US" sz="4000" spc="-1" strike="noStrike">
              <a:solidFill>
                <a:srgbClr val="000000"/>
              </a:solidFill>
              <a:latin typeface="Arial"/>
            </a:endParaRPr>
          </a:p>
        </p:txBody>
      </p:sp>
      <p:sp>
        <p:nvSpPr>
          <p:cNvPr id="109"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first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working toward compliance with CIP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second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compliance with CIPA unless state or local procurement rules or regulations or competitive bidding requirements prevent the making of the certific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third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compliance with CIP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02:20Z</dcterms:created>
  <dc:creator>rreynolds</dc:creator>
  <dc:description/>
  <dc:language>en-US</dc:language>
  <cp:lastModifiedBy>John Noran</cp:lastModifiedBy>
  <dcterms:modified xsi:type="dcterms:W3CDTF">2009-09-17T20:18:04Z</dcterms:modified>
  <cp:revision>472</cp:revision>
  <dc:subject/>
  <dc:title>Slide 1</dc:title>
</cp:coreProperties>
</file>